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2D2-22A5-4D60-AAB6-C90FF764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3EF-8653-4E9E-A8A4-D2D1559D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159-98C8-4F1E-89EA-D488DEC7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C1E-543E-4BF8-BCEA-796BA70F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BD88-7C7D-483F-9725-33DEDDF2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0BE5-9204-4E88-B290-5D979AB0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FEDB-94F0-4D72-B884-D4D1DAF3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B3CA-B868-44F9-935E-8960D645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1E81-16CE-457B-AA2A-5397C1FC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4703-AFB3-4850-9CA9-69E1F54F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5A28-0891-49D5-87F4-F9C9FF23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C73-9EBD-4EF0-BF95-4D0BFB2E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1264-645C-4F1B-A14B-70303D37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4842-2DEB-4BFB-9A59-27411CEE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7913-F995-4936-A727-A59626E4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54D9-71D8-4AA7-92BD-5C4FADD1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921B-62F3-44FA-A732-F6E76065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E1E-BD44-48B1-B96C-9695AC37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296-77C4-4ACC-9C9E-0CB22B98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187-0456-495B-8EB4-9D605A44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880-56BF-4862-964E-8B7A300D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EC7-8756-4716-A794-A1D3558E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0A0-FCBB-41FA-B13D-A37BCE2E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E86-008A-4E36-ACB4-7BF662D3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60B8-EE9C-45B6-AD5B-8EFFC3F45A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8EE5-35E9-4472-BF16-36CE433D41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fe1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5280" y="2349360"/>
            <a:ext cx="8497800" cy="13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000080">
                    <a:alpha val="90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имия в Медицине</a:t>
            </a:r>
            <a:endParaRPr b="1" lang="en-US" sz="7200" spc="1" strike="noStrike">
              <a:ln w="0">
                <a:noFill/>
              </a:ln>
              <a:solidFill>
                <a:srgbClr val="000080">
                  <a:alpha val="90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7560" y="355680"/>
            <a:ext cx="22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ОУ СОШ №1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4038480"/>
            <a:ext cx="415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или: Рудакова Маш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сиченко Ал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ряйнов Ив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иридов Алекс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8320" y="571500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ила: Горяйн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ьяна Михайл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32640" y="333360"/>
            <a:ext cx="200808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Лекар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10560" y="333360"/>
            <a:ext cx="61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то природные или синтетические лечебные сред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4880" y="1341360"/>
            <a:ext cx="1968480" cy="916920"/>
          </a:xfrm>
          <a:prstGeom prst="rect">
            <a:avLst/>
          </a:prstGeom>
          <a:solidFill>
            <a:srgbClr val="ccecff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 локализ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19280" y="1447920"/>
            <a:ext cx="2052360" cy="642600"/>
          </a:xfrm>
          <a:prstGeom prst="rect">
            <a:avLst/>
          </a:prstGeom>
          <a:solidFill>
            <a:srgbClr val="ccecff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 типу 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20240" y="1447920"/>
            <a:ext cx="1531080" cy="642600"/>
          </a:xfrm>
          <a:prstGeom prst="rect">
            <a:avLst/>
          </a:prstGeom>
          <a:solidFill>
            <a:srgbClr val="ccecff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 тип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возбуд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62840" y="1447920"/>
            <a:ext cx="1518840" cy="642600"/>
          </a:xfrm>
          <a:prstGeom prst="rect">
            <a:avLst/>
          </a:prstGeom>
          <a:solidFill>
            <a:srgbClr val="ccecff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Антисеп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1640" y="2492280"/>
            <a:ext cx="211464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рвная систем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рдце и сосуд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рга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ищеварен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ммунитет, кров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мен вещест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41520" y="2590920"/>
            <a:ext cx="238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езболивающ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азмолити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даптоге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тивоопухолевы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огнаст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4680" y="2590920"/>
            <a:ext cx="228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тивовирусны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тивомикробны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тивогрибков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36360" y="2565360"/>
            <a:ext cx="16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зинфек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2514600"/>
            <a:ext cx="2232000" cy="2232000"/>
          </a:xfrm>
          <a:prstGeom prst="rect">
            <a:avLst/>
          </a:prstGeom>
          <a:solidFill>
            <a:srgbClr val="800080">
              <a:alpha val="2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2590920"/>
            <a:ext cx="2384640" cy="1676160"/>
          </a:xfrm>
          <a:prstGeom prst="rect">
            <a:avLst/>
          </a:prstGeom>
          <a:solidFill>
            <a:srgbClr val="800080">
              <a:alpha val="2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76920" y="2590920"/>
            <a:ext cx="2286000" cy="1079280"/>
          </a:xfrm>
          <a:prstGeom prst="rect">
            <a:avLst/>
          </a:prstGeom>
          <a:solidFill>
            <a:srgbClr val="800080">
              <a:alpha val="2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2590920"/>
            <a:ext cx="1729080" cy="504720"/>
          </a:xfrm>
          <a:prstGeom prst="rect">
            <a:avLst/>
          </a:prstGeom>
          <a:solidFill>
            <a:srgbClr val="800080">
              <a:alpha val="2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981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24000" y="981000"/>
            <a:ext cx="619200" cy="314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914400"/>
            <a:ext cx="30477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11280" y="765000"/>
            <a:ext cx="5132520" cy="530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2286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2286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683400" y="3357720"/>
            <a:ext cx="2109600" cy="3311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095880" y="2286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153280" y="2286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900"/>
                            </p:stCondLst>
                            <p:childTnLst>
                              <p:par>
                                <p:cTn id="5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600"/>
                            </p:stCondLst>
                            <p:childTnLst>
                              <p:par>
                                <p:cTn id="5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8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6600"/>
                            </p:stCondLst>
                            <p:childTnLst>
                              <p:par>
                                <p:cTn id="5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7600"/>
                            </p:stCondLst>
                            <p:childTnLst>
                              <p:par>
                                <p:cTn id="6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8600"/>
                            </p:stCondLst>
                            <p:childTnLst>
                              <p:par>
                                <p:cTn id="6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9600"/>
                            </p:stCondLst>
                            <p:childTnLst>
                              <p:par>
                                <p:cTn id="6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600"/>
                            </p:stCondLst>
                            <p:childTnLst>
                              <p:par>
                                <p:cTn id="6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1600"/>
                            </p:stCondLst>
                            <p:childTnLst>
                              <p:par>
                                <p:cTn id="6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2600"/>
                            </p:stCondLst>
                            <p:childTnLst>
                              <p:par>
                                <p:cTn id="6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8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3600"/>
                            </p:stCondLst>
                            <p:childTnLst>
                              <p:par>
                                <p:cTn id="6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4600"/>
                            </p:stCondLst>
                            <p:childTnLst>
                              <p:par>
                                <p:cTn id="6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8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5600"/>
                            </p:stCondLst>
                            <p:childTnLst>
                              <p:par>
                                <p:cTn id="6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8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95280" y="1197000"/>
            <a:ext cx="8064360" cy="3529080"/>
          </a:xfrm>
          <a:prstGeom prst="rect">
            <a:avLst/>
          </a:prstGeom>
          <a:solidFill>
            <a:srgbClr val="99ff99">
              <a:alpha val="5000"/>
            </a:srgbClr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3840" y="189000"/>
            <a:ext cx="8233560" cy="520560"/>
          </a:xfrm>
          <a:prstGeom prst="rect">
            <a:avLst/>
          </a:prstGeom>
          <a:solidFill>
            <a:srgbClr val="99ff99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ередозировка лекарственными средств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800" y="1360440"/>
            <a:ext cx="58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рьезно передозировать можно любые препара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13280" y="1720800"/>
            <a:ext cx="27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аще всего это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этано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4920" y="2081160"/>
            <a:ext cx="52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также  препараты, вызывающие зависим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30320" y="2728800"/>
            <a:ext cx="955080" cy="368280"/>
          </a:xfrm>
          <a:prstGeom prst="rect">
            <a:avLst/>
          </a:prstGeom>
          <a:solidFill>
            <a:srgbClr val="ccecff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и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86680" y="2728800"/>
            <a:ext cx="1454760" cy="368280"/>
          </a:xfrm>
          <a:prstGeom prst="rect">
            <a:avLst/>
          </a:prstGeom>
          <a:solidFill>
            <a:srgbClr val="ccecff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да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59400" y="2728800"/>
            <a:ext cx="1445760" cy="368280"/>
          </a:xfrm>
          <a:prstGeom prst="rect">
            <a:avLst/>
          </a:prstGeom>
          <a:solidFill>
            <a:srgbClr val="ccecff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нотвор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646680" y="2728800"/>
            <a:ext cx="1579680" cy="368280"/>
          </a:xfrm>
          <a:prstGeom prst="rect">
            <a:avLst/>
          </a:prstGeom>
          <a:solidFill>
            <a:srgbClr val="ccecff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имуля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692000" y="2421000"/>
            <a:ext cx="863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64000" y="2421000"/>
            <a:ext cx="1368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43280" y="242100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348000" y="242100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3480" y="3233880"/>
            <a:ext cx="633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средства, применяемые в лечении психически бо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9400" y="3881520"/>
            <a:ext cx="2055240" cy="368280"/>
          </a:xfrm>
          <a:prstGeom prst="rect">
            <a:avLst/>
          </a:prstGeom>
          <a:solidFill>
            <a:srgbClr val="ccecff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тидепресс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05240" y="3881520"/>
            <a:ext cx="1735200" cy="368280"/>
          </a:xfrm>
          <a:prstGeom prst="rect">
            <a:avLst/>
          </a:prstGeom>
          <a:solidFill>
            <a:srgbClr val="ccecff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типсихо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68520" y="3881520"/>
            <a:ext cx="803880" cy="368280"/>
          </a:xfrm>
          <a:prstGeom prst="rect">
            <a:avLst/>
          </a:prstGeom>
          <a:solidFill>
            <a:srgbClr val="ccecff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т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268360" y="3573360"/>
            <a:ext cx="43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32360" y="3573360"/>
            <a:ext cx="1295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67280" y="357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3080" y="5157720"/>
            <a:ext cx="375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агностика и ле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дозировки лекарств завися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 знания врачом симптома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х специфического 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32360" y="5084640"/>
            <a:ext cx="3816360" cy="1440000"/>
          </a:xfrm>
          <a:prstGeom prst="rect">
            <a:avLst/>
          </a:prstGeom>
          <a:solidFill>
            <a:srgbClr val="800080">
              <a:alpha val="2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948360" y="1413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29400" y="5229360"/>
            <a:ext cx="4248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верное применен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ысокая доза – яд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4000" y="5229360"/>
            <a:ext cx="4319280" cy="863640"/>
          </a:xfrm>
          <a:prstGeom prst="rect">
            <a:avLst/>
          </a:prstGeom>
          <a:solidFill>
            <a:srgbClr val="ccffff">
              <a:alpha val="14000"/>
            </a:srgbClr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300"/>
                            </p:stCondLst>
                            <p:childTnLst>
                              <p:par>
                                <p:cTn id="7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300"/>
                            </p:stCondLst>
                            <p:childTnLst>
                              <p:par>
                                <p:cTn id="7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850"/>
                            </p:stCondLst>
                            <p:childTnLst>
                              <p:par>
                                <p:cTn id="7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77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770" fill="hold"/>
                                        <p:tgtEl>
                                          <p:spTgt spid="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7850"/>
                            </p:stCondLst>
                            <p:childTnLst>
                              <p:par>
                                <p:cTn id="7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150"/>
                            </p:stCondLst>
                            <p:childTnLst>
                              <p:par>
                                <p:cTn id="7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8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1150"/>
                            </p:stCondLst>
                            <p:childTnLst>
                              <p:par>
                                <p:cTn id="7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8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2150"/>
                            </p:stCondLst>
                            <p:childTnLst>
                              <p:par>
                                <p:cTn id="7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3150"/>
                            </p:stCondLst>
                            <p:childTnLst>
                              <p:par>
                                <p:cTn id="7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4150"/>
                            </p:stCondLst>
                            <p:childTnLst>
                              <p:par>
                                <p:cTn id="7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5150"/>
                            </p:stCondLst>
                            <p:childTnLst>
                              <p:par>
                                <p:cTn id="7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6149"/>
                            </p:stCondLst>
                            <p:childTnLst>
                              <p:par>
                                <p:cTn id="8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8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7150"/>
                            </p:stCondLst>
                            <p:childTnLst>
                              <p:par>
                                <p:cTn id="8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8150"/>
                            </p:stCondLst>
                            <p:childTnLst>
                              <p:par>
                                <p:cTn id="8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0900"/>
                            </p:stCondLst>
                            <p:childTnLst>
                              <p:par>
                                <p:cTn id="8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1900"/>
                            </p:stCondLst>
                            <p:childTnLst>
                              <p:par>
                                <p:cTn id="8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8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2900"/>
                            </p:stCondLst>
                            <p:childTnLst>
                              <p:par>
                                <p:cTn id="8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8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3900"/>
                            </p:stCondLst>
                            <p:childTnLst>
                              <p:par>
                                <p:cTn id="8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8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4900"/>
                            </p:stCondLst>
                            <p:childTnLst>
                              <p:par>
                                <p:cTn id="8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900"/>
                            </p:stCondLst>
                            <p:childTnLst>
                              <p:par>
                                <p:cTn id="8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8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6900"/>
                            </p:stCondLst>
                            <p:childTnLst>
                              <p:par>
                                <p:cTn id="8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6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8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0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8900"/>
                            </p:stCondLst>
                            <p:childTnLst>
                              <p:par>
                                <p:cTn id="8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31150"/>
                            </p:stCondLst>
                            <p:childTnLst>
                              <p:par>
                                <p:cTn id="9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07800"/>
            <a:ext cx="8229600" cy="532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Arial"/>
              </a:rPr>
              <a:t>Осложнения, обусловленные передозировкой лекарств</a:t>
            </a:r>
            <a:r>
              <a:rPr b="0" lang="en-US" sz="4000" spc="-1" strike="noStrike">
                <a:solidFill>
                  <a:srgbClr val="0088e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052640"/>
            <a:ext cx="864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ногие лекарственные вещества, оказывая полезное терапевтическое воздействие, одновременно могут вызывать нежелательные реакции, в некоторых случаях приводящие к тяжелым осложнениям и даже смертельным исходам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0720" y="3429000"/>
            <a:ext cx="75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лекарственных средств во многом определяется их </a:t>
            </a: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дозо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9280" y="4005360"/>
            <a:ext cx="844416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!!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ндивидуальные различия в чувствительности людей к лекарственным препаратам (необходимость при приеме некоторых учитывать такие факторы, как возраст, пол, масса тела, состояние желудочно-кишечного тракта, кровообращения почек, печени и тд.)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9280" y="558972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Умышленный прием лекарств в большой дозе с целью самоубий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Небрежность (при неправильном хранении в местах, доступных детям, при несоблюдении рекомендаций врач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372360" y="2060640"/>
            <a:ext cx="2422440" cy="1344600"/>
          </a:xfrm>
          <a:prstGeom prst="rect">
            <a:avLst/>
          </a:prstGeom>
          <a:ln w="25560">
            <a:solidFill>
              <a:srgbClr val="ffffff"/>
            </a:solidFill>
            <a:prstDash val="sysDot"/>
            <a:miter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3124080" y="2057400"/>
            <a:ext cx="2681280" cy="1314360"/>
          </a:xfrm>
          <a:prstGeom prst="rect">
            <a:avLst/>
          </a:prstGeom>
          <a:ln w="25560">
            <a:solidFill>
              <a:srgbClr val="00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135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0880" y="656280"/>
            <a:ext cx="8534520" cy="3339000"/>
          </a:xfrm>
          <a:prstGeom prst="rect">
            <a:avLst/>
          </a:prstGeom>
          <a:solidFill>
            <a:srgbClr val="ff0066">
              <a:alpha val="12000"/>
            </a:srgbClr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есть яд, ничто не лишено ядовитост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се есть лекарство. Лишь только доз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ает вещество ядом или лекарств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Парацель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28600" y="4699080"/>
            <a:ext cx="2133720" cy="18968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477120" y="5029200"/>
            <a:ext cx="2438280" cy="1609560"/>
          </a:xfrm>
          <a:prstGeom prst="rect">
            <a:avLst/>
          </a:prstGeom>
          <a:ln w="0">
            <a:noFill/>
          </a:ln>
        </p:spPr>
      </p:pic>
      <p:sp>
        <p:nvSpPr>
          <p:cNvPr id="329" name="">
            <a:hlinkClick r:id="rId3" action="ppaction://hlinksldjump"/>
          </p:cNvPr>
          <p:cNvSpPr/>
          <p:nvPr/>
        </p:nvSpPr>
        <p:spPr>
          <a:xfrm>
            <a:off x="0" y="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10800"/>
                </a:moveTo>
                <a:lnTo>
                  <a:pt x="30758" y="3794"/>
                </a:lnTo>
                <a:lnTo>
                  <a:pt x="30758" y="17806"/>
                </a:lnTo>
                <a:close/>
              </a:path>
            </a:pathLst>
          </a:custGeom>
          <a:solidFill>
            <a:srgbClr val="0068ae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28195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выкание сопровождается ослаблением различных эффектов лекарственных средств, включая их основные (фармакотерапевтические) и побочные эффекты. При этом ослабление отдельных эффектов в процессе привыкания к одному и тому же препарату может иметь разную временную динамику и неодинаковую степень выражен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380880"/>
            <a:ext cx="9144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выкание к лекарственным средства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295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екарственная зависим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— синдром, развивающийся при употреблении психотропных веществ; характеризуется патологической потребностью в приеме таких веществ для того, чтобы избежать развития абстиненции или психических нарушений и состояния дискомфорта, возникающих при прекращении их приема либо при введении антагонистов этих вещест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219320" y="4876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5943600" y="4648320"/>
            <a:ext cx="23814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52280"/>
            <a:ext cx="8153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Лекарственная зависим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336" name=""/>
          <p:cNvSpPr/>
          <p:nvPr/>
        </p:nvSpPr>
        <p:spPr>
          <a:xfrm>
            <a:off x="230400" y="140004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сихолог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945760" y="124776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из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2061000"/>
            <a:ext cx="39625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екращение приема вызвавшего ее вещества сопровождается эмоциональным и психологическим дискомфортом. Ее признаком является также влечение к приему вещества, которое может приобретать навязчивый характер и иногда становится непреодолимым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00600" y="2136240"/>
            <a:ext cx="43434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тмена вызвавшего ее вещества или лекарственного препарата приводит к развитию синдрома абстиненции, проявляющегося наряду с психическими различными вегетативно-соматическими и неврологическими расстройствам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280" y="441936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каин, препараты индийской конопли, диэтиламид лизергиновой кислоты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55314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морфин, кодеин, героин и другие морфиноподобные вещества, барбитураты, алкоголь, транквилизаторы из группы производных бензодиазепина и др.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362320" y="91440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10080" y="8380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дицина в современном мире играет исключительную роль в жизни человека и общества. Она имеет широкое применение в различных сферах, и, безусловно, влияет на уровень жизн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438280" y="-15228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8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вод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формационные материал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ttp://www.examen.r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ande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914400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ae8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914400"/>
            <a:ext cx="80769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ль: Выявить значение и применение химии в медицине, рассмотреть формы лекарств и их влияние на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ипотеза: Медицина – одна из важнейших областей науки, направленная на сохранение и укрепление здоровья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История медици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152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50920" y="1052640"/>
            <a:ext cx="889308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ервые ша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чатки врачевания возникли на самых ранних стадиях существования чело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зультаты раскопок поселений и захоронений первобытного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учение отдельных этнических групп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 наблюдений и опыта тысячелетий, передававшегося из поколения в поколение, рождалось рациональное врачева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мпирически найденные приемы лечения и защиты от болезней закреплялись в обычаях первобытного человека и постепенно составили народную медицину и гигиен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менение лекарственных раст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пользование природных факторов (вода, воздух, солнце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которые хирургические приемы (извлечение инородных тел, кровопускание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3640" y="1197000"/>
            <a:ext cx="30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50920" y="40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1916280"/>
            <a:ext cx="87138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нтичная медиц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унаследовала и магические формы врачевания, и рациональные приемы, целебные средства народной медици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ететика, массаж, водные процедуры, гимнасти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ирургические методы (кесарево сечение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мбриотомия и т. д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дупреждение болезней (режим питания, семейная жизнь, отношение к беременным женщинам и кормящим матерям, запрещение пить опьяняющие напитки и др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ранних этапах рабовладельческого строя врачебное дело выделилось в качестве самостоятельной профессии. Повсеместное развитие получила так называемая храмовая медицина: врачебные функции осуществляли жре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948360" y="189000"/>
            <a:ext cx="2040120" cy="1571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934320" y="228600"/>
            <a:ext cx="2016000" cy="1584360"/>
          </a:xfrm>
          <a:prstGeom prst="rect">
            <a:avLst/>
          </a:prstGeom>
          <a:solidFill>
            <a:srgbClr val="0068a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304920"/>
            <a:ext cx="68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обытный человек не знал естественных причин многих наблюдаемых им явл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клинания, заговоры и другие магические при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50920" y="130320"/>
            <a:ext cx="8713800" cy="67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Основоположники лекарствен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Медици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ff99"/>
                </a:solidFill>
                <a:uFillTx/>
                <a:latin typeface="Arial"/>
              </a:rPr>
              <a:t>Гиппокра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fe1ff"/>
                </a:solidFill>
                <a:latin typeface="Arial"/>
              </a:rPr>
              <a:t>(460 – 377 до н.э.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создал учение о 4-х жизненных жидкостях: крови, слизь, черной и желтой жел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ff99"/>
                </a:solidFill>
                <a:uFillTx/>
                <a:latin typeface="Arial"/>
              </a:rPr>
              <a:t>К. Гале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fe1ff"/>
                </a:solidFill>
                <a:latin typeface="Arial"/>
              </a:rPr>
              <a:t>(129 – 20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заложил основы фармаколог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ff99"/>
                </a:solidFill>
                <a:uFillTx/>
                <a:latin typeface="Arial"/>
              </a:rPr>
              <a:t>Абу Али  Ибн Си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вицен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fe1ff"/>
                </a:solidFill>
                <a:latin typeface="Arial"/>
              </a:rPr>
              <a:t>(980 – 1037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заложил основу возникновения ятрохимии (врачебной, медицинской хим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ff99"/>
                </a:solidFill>
                <a:uFillTx/>
                <a:latin typeface="Arial"/>
              </a:rPr>
              <a:t>Парацель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afe1ff"/>
                </a:solidFill>
                <a:latin typeface="Arial"/>
              </a:rPr>
              <a:t>(1493 – 154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основоположник ятрохим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ff99"/>
                </a:solidFill>
                <a:uFillTx/>
                <a:latin typeface="Arial"/>
              </a:rPr>
              <a:t>Г. Дэв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открыл анестезирующие вещ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ff99"/>
                </a:solidFill>
                <a:uFillTx/>
                <a:latin typeface="Arial"/>
              </a:rPr>
              <a:t>Л. Пасте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fe1ff"/>
                </a:solidFill>
                <a:latin typeface="Arial"/>
              </a:rPr>
              <a:t>(1822 – 1895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создал вакцины и способ обеззараживания и сохранения продуктов – пастеризац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ff99"/>
                </a:solidFill>
                <a:uFillTx/>
                <a:latin typeface="Arial"/>
              </a:rPr>
              <a:t>П. Эрли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заложил основы химиотерап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ff99"/>
                </a:solidFill>
                <a:uFillTx/>
                <a:latin typeface="Arial"/>
              </a:rPr>
              <a:t>А.Е. Чичибаб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fe1ff"/>
                </a:solidFill>
                <a:latin typeface="Arial"/>
              </a:rPr>
              <a:t>(1871 – 1945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развил идею о химиотерап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ff99"/>
                </a:solidFill>
                <a:uFillTx/>
                <a:latin typeface="Arial"/>
              </a:rPr>
              <a:t>А. Флемин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fe1ff"/>
                </a:solidFill>
                <a:latin typeface="Arial"/>
              </a:rPr>
              <a:t>(1881 – 1955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открыл пенициллин в 1928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155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1155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1155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1155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155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155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1155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155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155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1155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1155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1155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155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1155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1155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1155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155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1155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1155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1155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155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1155" fill="hold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1155" fill="hold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1155" fill="hold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155"/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1155" fill="hold"/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1155" fill="hold"/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1155" fill="hold"/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155"/>
                                        <p:tgtEl>
                                          <p:spTgt spid="2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1155" fill="hold"/>
                                        <p:tgtEl>
                                          <p:spTgt spid="2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" dur="1155" fill="hold"/>
                                        <p:tgtEl>
                                          <p:spTgt spid="2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" dur="1155" fill="hold"/>
                                        <p:tgtEl>
                                          <p:spTgt spid="2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155"/>
                                        <p:tgtEl>
                                          <p:spTgt spid="2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1155" fill="hold"/>
                                        <p:tgtEl>
                                          <p:spTgt spid="2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" dur="1155" fill="hold"/>
                                        <p:tgtEl>
                                          <p:spTgt spid="2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" dur="1155" fill="hold"/>
                                        <p:tgtEl>
                                          <p:spTgt spid="2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676600" cy="4202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324400" y="2133720"/>
            <a:ext cx="3638520" cy="45162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Химия сегодн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solidFill>
            <a:srgbClr val="0068ae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имиотерапия, гормонотерапия, лучевая терапия, разработка и применение психотропных средств, избирательно воздействующих на центральную нервную систему, возможность оперативного вмешательства на так называемом открытом сердце, в глубине мозга и на других, ранее не доступных скальпелю хирурга органах человеческого тела, изменили лицо медицины, позволили врачу активно вмешиваться в течение болезни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32200" y="380880"/>
            <a:ext cx="44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ФАРМАКОЛОГ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121932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40" y="2209680"/>
            <a:ext cx="1451880" cy="368280"/>
          </a:xfrm>
          <a:prstGeom prst="rect">
            <a:avLst/>
          </a:prstGeom>
          <a:solidFill>
            <a:srgbClr val="ccec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зи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129528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71720" y="1752480"/>
            <a:ext cx="1217160" cy="368280"/>
          </a:xfrm>
          <a:prstGeom prst="rect">
            <a:avLst/>
          </a:prstGeom>
          <a:solidFill>
            <a:srgbClr val="ccec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иохим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58240" y="1295280"/>
            <a:ext cx="2928600" cy="368280"/>
          </a:xfrm>
          <a:prstGeom prst="rect">
            <a:avLst/>
          </a:prstGeom>
          <a:solidFill>
            <a:srgbClr val="ccec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армацевтическая хим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990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97400" y="1905120"/>
            <a:ext cx="1950120" cy="642600"/>
          </a:xfrm>
          <a:prstGeom prst="rect">
            <a:avLst/>
          </a:prstGeom>
          <a:solidFill>
            <a:srgbClr val="ccec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толог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зиолог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10666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6094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от греч. Pharmakon – лекарство и логия)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ука, изучающая действие лекарственных веществ на организм человека и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52480" y="266688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Основные направл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1480" y="4384800"/>
            <a:ext cx="233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асыван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пределение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иотрансформ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екарствен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пар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88000" y="4508640"/>
            <a:ext cx="194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иохим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ханизмы и 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51280" y="4581360"/>
            <a:ext cx="251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у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екарствен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паратов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линической практ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4419720"/>
            <a:ext cx="2263680" cy="1506240"/>
          </a:xfrm>
          <a:prstGeom prst="rect">
            <a:avLst/>
          </a:prstGeom>
          <a:solidFill>
            <a:srgbClr val="800080">
              <a:alpha val="22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16360" y="4437000"/>
            <a:ext cx="2232000" cy="1440000"/>
          </a:xfrm>
          <a:prstGeom prst="rect">
            <a:avLst/>
          </a:prstGeom>
          <a:solidFill>
            <a:srgbClr val="800080">
              <a:alpha val="22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51640" y="4437000"/>
            <a:ext cx="2520720" cy="1513080"/>
          </a:xfrm>
          <a:prstGeom prst="rect">
            <a:avLst/>
          </a:prstGeom>
          <a:solidFill>
            <a:srgbClr val="800080">
              <a:alpha val="22000"/>
            </a:srgbClr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828800" y="3276720"/>
            <a:ext cx="4334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3276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95880" y="3276720"/>
            <a:ext cx="644760" cy="1003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750"/>
                            </p:stCondLst>
                            <p:childTnLst>
                              <p:par>
                                <p:cTn id="2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750"/>
                            </p:stCondLst>
                            <p:childTnLst>
                              <p:par>
                                <p:cTn id="2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750"/>
                            </p:stCondLst>
                            <p:childTnLst>
                              <p:par>
                                <p:cTn id="2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750"/>
                            </p:stCondLst>
                            <p:childTnLst>
                              <p:par>
                                <p:cTn id="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175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2750"/>
                            </p:stCondLst>
                            <p:childTnLst>
                              <p:par>
                                <p:cTn id="2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3750"/>
                            </p:stCondLst>
                            <p:childTnLst>
                              <p:par>
                                <p:cTn id="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4750"/>
                            </p:stCondLst>
                            <p:childTnLst>
                              <p:par>
                                <p:cTn id="3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750"/>
                            </p:stCondLst>
                            <p:childTnLst>
                              <p:par>
                                <p:cTn id="3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77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70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7750"/>
                            </p:stCondLst>
                            <p:childTnLst>
                              <p:par>
                                <p:cTn id="3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8750"/>
                            </p:stCondLst>
                            <p:childTnLst>
                              <p:par>
                                <p:cTn id="3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9750"/>
                            </p:stCondLst>
                            <p:childTnLst>
                              <p:par>
                                <p:cTn id="3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750"/>
                            </p:stCondLst>
                            <p:childTnLst>
                              <p:par>
                                <p:cTn id="3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1750"/>
                            </p:stCondLst>
                            <p:childTnLst>
                              <p:par>
                                <p:cTn id="3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2750"/>
                            </p:stCondLst>
                            <p:childTnLst>
                              <p:par>
                                <p:cTn id="3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09480" y="380880"/>
            <a:ext cx="7620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ормы лекарст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629400" y="5010120"/>
            <a:ext cx="2305080" cy="1789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80880" y="5105520"/>
            <a:ext cx="1676520" cy="167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228600" y="1066680"/>
          <a:ext cx="8457840" cy="3809880"/>
        </p:xfrm>
        <a:graphic>
          <a:graphicData uri="http://schemas.openxmlformats.org/drawingml/2006/table">
            <a:tbl>
              <a:tblPr/>
              <a:tblGrid>
                <a:gridCol w="1819800"/>
                <a:gridCol w="3034440"/>
                <a:gridCol w="3603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дкие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ерды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ягк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тво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сто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ары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стойк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трак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кстур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из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мульс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спенз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ошк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анул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блетки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аж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люл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псул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си измельченного растительного сырь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з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нименты (жидкие маз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ппозитории (свеч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ошки и таблетки, растворяемые непосредственно перед инъекци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2057400"/>
            <a:ext cx="26668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мене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обволакивающее и адсорбирующее средство внутрь (10—100 г) при желудочно-кишечных заболеваниях (колика, энтериты); наружно в виде присыпок, мазей, паст при кожных заболеваниях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600200" y="106668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1676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ЛИНА БЕЛАЯ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08772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мене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ружно в виде 5% и 10% спиртового раствора как антисептическо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80040" y="2689200"/>
            <a:ext cx="7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ЙОД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90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1066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4360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ИНКОВАЯ МАЗ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2819520"/>
            <a:ext cx="309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мене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качестве антисептического, вяжущего и подсушивающего средства при кожных заболевания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5024520"/>
            <a:ext cx="5257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мене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качестве аналгезирующего средства при головной боли, невралгии и жаропонижающего при простудных заболеваниях по 1 таблетке 2—3 раза в день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3440" y="449568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ИТРАМ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410080" y="129528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600" y="228600"/>
            <a:ext cx="8610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именение различных лекарст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9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ня</cp:lastModifiedBy>
  <dcterms:modified xsi:type="dcterms:W3CDTF">2008-12-20T10:56:5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